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03A-DC08-4498-A242-A812F6B4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.umich.edu/lrc/coursepages/m1/embryology/embryo/08nervous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tc.usf.edu/clipart/15500/15556/cerebrum_1555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orphonix.com/software/education/science/brain/game/specimens/cerebral_cortex_lob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uroskeptic.blogspot.ca/2011/02/boy-without-cerebellumhas-no-cerebell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.umich.edu/lrc/coursepages/m1/embryology/embryo/08nervous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gnantteens.wordpress.com/research/adolescent-brain-development/anatomy-of-the-brai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celeratedcure.org/msresources/neuroanatom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Human_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ainhealthandpuzzles.com/diagram_of_br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56F-D9F4-4AB0-84DA-D060D3CB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B84-A51B-4E0B-9E3D-8F52E996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663-9E15-4786-BAE3-7CB62D37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7A6-F860-4400-9263-258045E9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D0E-0815-493B-A204-BE92EA4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1F0-A6BF-49F5-AA48-B8ABE3E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7FC-2A59-4FD3-BC0B-8A312F2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71C-9FB8-41E8-95D0-D2073BE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A22-817C-442B-9BF9-42F827FB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341-4982-4D1E-8AC1-AB61DC0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1AC-CD21-4037-AAC8-3064CCA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CB1-BF67-40B8-8B8D-208EC23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EE8-719F-4697-AA9B-A635599CB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7720" y="609480"/>
            <a:ext cx="4768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720720"/>
            <a:ext cx="7772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98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, pers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e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y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,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al recog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y,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ipi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asso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tunes body’s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posture, gait &amp; direction of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rain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in brain have tight junctions between epithelial cells (i.e. most dissolved substances do not enter the C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&amp; pineal gland are not behind blood-brain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rain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carbon dioxide, alcohol, caffeine, nicotine move directly across the 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elective transport proteins move substances such as glucose into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Left Br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ght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spoken &amp; writt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recise mathematical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onverbal conceptua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tu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usical &amp; artistic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pat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59080" y="1981080"/>
            <a:ext cx="622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and spinal cord are surrounded by 3 layers of connective tissue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i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rounds the meninges, and is within the central canal of the spinal cord &amp; the ventricles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re cell bodies and dendrites are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stly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ner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ive through the dorsal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rent ner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t through the ventral roo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80980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02120" y="1981080"/>
            <a:ext cx="293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ulla (oblongat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involuntary behaviours (breathing, digestion, heart rate, blood pressure);  forms the brain stem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mid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tor reponses, balance, fine mot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55800" y="609480"/>
            <a:ext cx="7230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veloped part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 most of the sensory and mot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al co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in layer of grey matter that surrounds cerebrum;  large surface area, divided into left hemisphere and right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0:27:34Z</dcterms:created>
  <dc:creator>rubina khan</dc:creator>
  <dc:description/>
  <dc:language>en-US</dc:language>
  <cp:lastModifiedBy>rubina khan</cp:lastModifiedBy>
  <dcterms:modified xsi:type="dcterms:W3CDTF">2012-06-05T11:22:44Z</dcterms:modified>
  <cp:revision>37</cp:revision>
  <dc:subject/>
  <dc:title>The Central Nervous System</dc:title>
</cp:coreProperties>
</file>